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64600"/>
        <c:axId val="12697159"/>
      </c:barChart>
      <c:catAx>
        <c:axId val="12164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97159"/>
        <c:crosses val="autoZero"/>
        <c:auto val="1"/>
        <c:lblAlgn val="ctr"/>
        <c:lblOffset val="100"/>
        <c:noMultiLvlLbl val="0"/>
      </c:catAx>
      <c:valAx>
        <c:axId val="12697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64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73C-772B-4830-9542-25966C46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E3A-A8EF-4528-8C9C-D980B1A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F2F-EF35-42C6-BF95-9FD5C184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D17-8B49-47F5-8EFE-57E6EA2F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594-9241-4839-973A-09B04EBD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1F6-227B-496E-92CC-7643C94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991-0CB7-4BC2-B304-25EFE3C1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86A-8444-487A-9330-4B6B7C74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5BE-B5F5-4483-BB12-E3EB9301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91C-1C99-4DA7-900C-E21CE3A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D40-0020-44BF-A14C-37BB983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DB4-1CAE-4BBB-A103-63F11E3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13CF4-EEE9-4F5E-9E24-D3E567A93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