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2419"/>
        <c:axId val="71236728"/>
      </c:barChart>
      <c:catAx>
        <c:axId val="3792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36728"/>
        <c:crosses val="autoZero"/>
        <c:auto val="1"/>
        <c:lblAlgn val="ctr"/>
        <c:lblOffset val="100"/>
        <c:noMultiLvlLbl val="0"/>
      </c:catAx>
      <c:valAx>
        <c:axId val="71236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2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D96-90F6-4F6F-AF8F-4FFD8BDE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0C2-E210-4230-B1A4-7305EA36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916-C3BD-4A55-AA3D-C1B17522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BE7-15F5-42B3-95D2-4941E562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9F5-8167-45A4-9F17-1840F33A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CA8-8F89-4551-A209-C109DB80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18A-00CB-42B6-93A9-4C54796B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92C-32D3-4CC8-AFB7-C5B7BCBA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1DC-7F73-4277-9EAA-87974A0E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684-2663-4763-9519-A637A04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D54-E34D-49CE-B036-5AB60EF8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91F-9522-4BCE-87A1-D8EFCAC3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CFFEB-5436-4747-8F34-FB5AD6505B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