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838250"/>
        <c:axId val="26996653"/>
      </c:barChart>
      <c:catAx>
        <c:axId val="288382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996653"/>
        <c:crosses val="autoZero"/>
        <c:auto val="1"/>
        <c:lblAlgn val="ctr"/>
        <c:lblOffset val="100"/>
        <c:noMultiLvlLbl val="0"/>
      </c:catAx>
      <c:valAx>
        <c:axId val="269966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8382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749F-5C0C-42D5-91DB-27A769BE9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263F-52CD-4D58-8F1A-C1E4B0F5F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1527-39A4-484A-97AD-9F8825092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C485-D3B6-4BE2-80F9-DC859A53B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7DAF-F154-46FB-960C-630D38352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0812-DE14-47FF-A488-73E22B553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B419-11EA-4413-9F65-C4A520754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6C0D-A959-49D0-893E-C0B2F88AF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70B2-EDCC-43C7-A80B-9B3E18AF9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F173-65B9-44F8-8A93-CBC63FC08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B197-51E2-4C5D-B521-01DD213A0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583E-2131-4E51-8B05-8DB66002D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606558-BB38-425E-805B-4F6CF9D3CAE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