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58817"/>
        <c:axId val="2925163"/>
      </c:barChart>
      <c:catAx>
        <c:axId val="82558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5163"/>
        <c:crosses val="autoZero"/>
        <c:auto val="1"/>
        <c:lblAlgn val="ctr"/>
        <c:lblOffset val="100"/>
        <c:noMultiLvlLbl val="0"/>
      </c:catAx>
      <c:valAx>
        <c:axId val="2925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58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F98-1F72-4376-9B25-C717CB5C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84C-D979-4AD0-BA21-585F3BE0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1DF-7C11-459B-8C47-C0578BDF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2F1-42E6-49D4-B722-8EB53350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5C9-5822-4961-A6D4-6349B9F7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2F8-47CE-48C3-AE6A-7332E61E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5DF-ACAE-44C8-9CFA-6E9893BF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5FF-BA9E-4061-8862-BA32AD71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E1B-13E4-4A4B-A356-D5AC1B19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AFA-7BEE-4717-9B6C-E3DBE379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001-C32A-4D03-90CF-13A47867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E74-FA45-485C-9344-C95AC3A7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64C1A-0620-43C5-A66B-0265683F0C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