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31441"/>
        <c:axId val="48006679"/>
      </c:barChart>
      <c:catAx>
        <c:axId val="43131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6679"/>
        <c:crosses val="autoZero"/>
        <c:auto val="1"/>
        <c:lblAlgn val="ctr"/>
        <c:lblOffset val="100"/>
        <c:noMultiLvlLbl val="0"/>
      </c:catAx>
      <c:valAx>
        <c:axId val="48006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1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07C-000C-4EBB-99B1-C72BA407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8BD-B1C7-4FF6-B40B-D4C11F5B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001-C25A-4669-83E4-73BCFA8B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947-4489-47C0-9C35-38EC0832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4AC-D924-44A8-B329-8A137ECE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DB5-2BD9-4D51-B382-B6DE92C0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8432-72C6-4878-A3B5-C3526144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D3F-591D-452B-817E-D598D642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D39-28E7-4A8B-87EB-E41C4CE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D4E-3902-4F3C-8CA3-8DE60631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FE1-CA8D-44AF-ACCE-74BDF49D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FA5-9A63-4185-8E57-1E704EF7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EF48B-2B8E-42E6-924F-0BFF80F862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