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69651"/>
        <c:axId val="82402525"/>
      </c:barChart>
      <c:catAx>
        <c:axId val="55069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02525"/>
        <c:crosses val="autoZero"/>
        <c:auto val="1"/>
        <c:lblAlgn val="ctr"/>
        <c:lblOffset val="100"/>
        <c:noMultiLvlLbl val="0"/>
      </c:catAx>
      <c:valAx>
        <c:axId val="82402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69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5E1-D138-4A7C-8FE1-FCABCD04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311-8510-4363-9E97-B3CCE9BF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E0A-D201-4785-9656-5F36122B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6A2-3041-486E-8914-5F6F1CCA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63C-5313-4D30-AD61-DB35A117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DC5-FD55-494A-9554-EED634AA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5E9-0A2F-4493-9AFF-5BE1571E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5BB-B4B1-42CD-B490-96194801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931-DFCE-4AA1-952E-A3999DB6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ACD-E9EF-4177-A5A1-E4A74E1B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D6C-347B-492E-A95D-2BF81B8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7BD-72E1-470E-B4B5-F363F9A8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4947C-CAC6-44B0-ABC9-DF340AFC84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