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37148"/>
        <c:axId val="20777044"/>
      </c:barChart>
      <c:catAx>
        <c:axId val="50637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77044"/>
        <c:crosses val="autoZero"/>
        <c:auto val="1"/>
        <c:lblAlgn val="ctr"/>
        <c:lblOffset val="100"/>
        <c:noMultiLvlLbl val="0"/>
      </c:catAx>
      <c:valAx>
        <c:axId val="20777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37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CF4-5DD0-4E76-B8C9-5AC37ED8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D8B-29D0-4860-8318-740E9ED9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213-7AAE-44BE-8815-EC99428C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C2B6-DC71-4A37-B36A-8C7B2D94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1B3-AD66-425D-A8AF-32CDC0EC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2B4-F5B1-4DD0-B915-718E1BA7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028-09CF-46E5-9577-0846F985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67F5-136E-4A9D-8FC0-67C56355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202-07D3-47F4-8358-E4E1CD54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78A-26FC-46A5-A60C-2C1A8CC3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CA6-49E1-435C-90A7-DFD08B2C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9E3-F1EE-4AF6-8B2B-5DF0DFB7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62D61-7935-4C07-BD1C-3C41868C32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