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67951"/>
        <c:axId val="44393113"/>
      </c:barChart>
      <c:catAx>
        <c:axId val="13267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93113"/>
        <c:crosses val="autoZero"/>
        <c:auto val="1"/>
        <c:lblAlgn val="ctr"/>
        <c:lblOffset val="100"/>
        <c:noMultiLvlLbl val="0"/>
      </c:catAx>
      <c:valAx>
        <c:axId val="44393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67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C99-6318-47C3-ACD8-65EDBD9B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DB2-E014-4DF5-B17D-9D115CCF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51D-D4B0-4FDD-848C-8D1A2E67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D33-D715-46B9-857C-F10E84BB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D44-BA46-4367-A504-BCF05D0A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B4B-EF58-41A1-9D43-551CB8F8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8EA-6B9E-4949-9C0E-A9D98D9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6A3-CB85-4B3D-B199-4B31C186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32D-073E-44D6-A3C9-F3A22A10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50F-E7EC-400A-BC62-9F7C251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E4A-58C9-4425-AB5A-BC288A1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9F6-D7C2-4095-B46A-D2F4EB8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15149-34D1-4EC8-A622-DC028166F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