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734136"/>
        <c:axId val="70386150"/>
      </c:barChart>
      <c:catAx>
        <c:axId val="967341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86150"/>
        <c:crosses val="autoZero"/>
        <c:auto val="1"/>
        <c:lblAlgn val="ctr"/>
        <c:lblOffset val="100"/>
        <c:noMultiLvlLbl val="0"/>
      </c:catAx>
      <c:valAx>
        <c:axId val="703861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341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9984-0851-48CE-8624-B8A19DD6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EECC-1A6A-4C62-8FAB-E270541D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8D62-D507-49E1-905D-F8CC9943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0C20-5EEF-42C9-8ECF-C20298F8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A388-EC8F-4B9E-AE67-86FB05D4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1EE6-425C-47EC-B3C5-AD0754D9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412D-7E31-4C55-8E08-C1B94C49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9F3C-4849-44B8-8B4C-2C586C68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2823-B612-4D48-8F04-F4C62F53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E472-5CDC-4B65-B68E-DE2F8B15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EA88-23AD-44A8-AFD3-72FD0108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D49-3AF7-4C86-A742-83F7B243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701A6-FC7F-4EDB-99B9-6D8DE34AC2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