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500053"/>
        <c:axId val="37277788"/>
      </c:barChart>
      <c:catAx>
        <c:axId val="155000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77788"/>
        <c:crosses val="autoZero"/>
        <c:auto val="1"/>
        <c:lblAlgn val="ctr"/>
        <c:lblOffset val="100"/>
        <c:noMultiLvlLbl val="0"/>
      </c:catAx>
      <c:valAx>
        <c:axId val="372777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000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0E4A-0007-4CA7-AFD7-6E3693236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81F1-D972-4316-B533-F6CA6562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D3E6-7890-4F36-ACEF-8E6A606D5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D664-38C6-4E1C-81C6-425052F68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E82E-81FB-4A00-A73D-0233367C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4F98-5790-4867-A96C-B7951B64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FCBD-FB24-403B-8DBE-3CDB1371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F233-5756-478A-A583-706AAC40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0785-B714-4BC9-9A33-DD2043CF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3A52-21EC-4EF9-89C7-53DB0C09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DE28-F966-4B6D-ABA4-2B1404CF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5E66-6AAA-4FA4-952D-7C39FAA6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94B78F-3BCC-41DF-A660-32007BC83F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