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6169875"/>
        <c:axId val="90709016"/>
      </c:barChart>
      <c:catAx>
        <c:axId val="6616987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0709016"/>
        <c:crosses val="autoZero"/>
        <c:auto val="1"/>
        <c:lblAlgn val="ctr"/>
        <c:lblOffset val="100"/>
        <c:noMultiLvlLbl val="0"/>
      </c:catAx>
      <c:valAx>
        <c:axId val="9070901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616987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0581E-F9B3-4655-BB82-E41ECBDC8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0E82E-3CAC-4219-990E-A526DD654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F6881-160D-4539-A052-8C76A0974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64723-3924-4BC3-97DB-39C038BD4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CC1BD-769F-43EA-976B-1A5F15EAD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404A3-9B94-4618-9C84-60F3AFBD2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0C634-311C-49E7-AB9E-097F933D8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283C7-471D-4EE2-8358-BEF63C735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7822A-8874-4808-9205-FA9B4184E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942E0-7462-498E-A3D9-0B4067DA2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95C16-9C33-4E5F-9DAA-ECF132D4D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76786-8F4B-43B3-BA5E-A46C6F37E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B22153-6FAA-4700-9184-AB4E1761582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