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25996"/>
        <c:axId val="41606108"/>
      </c:barChart>
      <c:catAx>
        <c:axId val="59225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06108"/>
        <c:crosses val="autoZero"/>
        <c:auto val="1"/>
        <c:lblAlgn val="ctr"/>
        <c:lblOffset val="100"/>
        <c:noMultiLvlLbl val="0"/>
      </c:catAx>
      <c:valAx>
        <c:axId val="416061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25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4CA-827B-4F24-8FFE-774FF20B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A61C-2839-4F8B-B6CC-F88BD656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5D7-FC43-4F56-937A-F7C3471C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CA2-13E9-4E31-929B-A7BA18E1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0E2-AA23-4612-8E0E-661A0181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95EE-EF42-46D4-8D35-EAEDCDC4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28F-5FB7-4D3B-9BF7-29A255AF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684-0A88-4EE2-9484-4A93A8AF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1BB-AEBC-44B7-8B05-53E41A42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770-B3FC-4540-B680-C45EA6DE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8AAE-651B-4F4E-89EF-C57FCEAC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ABEE-47A8-4C52-AB0D-2EA4C8CE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23B72-EAEA-4DAC-96C5-1827D33BBD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